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9BA-D825-4BE6-A1E8-5C3ADFA8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E076-B0A2-4DB2-A71E-39AE77B2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054-792D-421D-A54D-8DF0AA23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BA2-9326-4ADA-A957-CF494E36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2CB7-1F52-46C2-9F7C-59CD3E5B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D4CD-C5C0-45EA-91D2-889800C8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54B-5998-4662-8A26-35A71AD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A6E-A10D-4133-AC59-7C5FCC59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850-E8A7-442B-89EB-52EE455D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7382-1302-4064-9A6D-AC7A3DA0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C82-540A-4B2E-B6DB-49AC2EF1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C0B-AB85-4C04-9B03-9F1D2F5A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C1DE-3371-42BC-95CB-CE451D6AC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"/>
          <p:cNvGrpSpPr/>
          <p:nvPr/>
        </p:nvGrpSpPr>
        <p:grpSpPr>
          <a:xfrm>
            <a:off x="504720" y="3629160"/>
            <a:ext cx="8153640" cy="2706480"/>
            <a:chOff x="504720" y="3629160"/>
            <a:chExt cx="8153640" cy="2706480"/>
          </a:xfrm>
        </p:grpSpPr>
        <p:sp>
          <p:nvSpPr>
            <p:cNvPr id="42" name="Rectangle 4"/>
            <p:cNvSpPr/>
            <p:nvPr/>
          </p:nvSpPr>
          <p:spPr>
            <a:xfrm>
              <a:off x="1752840" y="5954760"/>
              <a:ext cx="5639040" cy="3808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4343760" y="4735440"/>
              <a:ext cx="457200" cy="12189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1676520" y="4583160"/>
              <a:ext cx="5791320" cy="152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16765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7315920" y="3897360"/>
              <a:ext cx="152280" cy="8380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 9"/>
            <p:cNvSpPr/>
            <p:nvPr/>
          </p:nvSpPr>
          <p:spPr>
            <a:xfrm>
              <a:off x="504720" y="362916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 10"/>
            <p:cNvSpPr/>
            <p:nvPr/>
          </p:nvSpPr>
          <p:spPr>
            <a:xfrm>
              <a:off x="6143760" y="3632400"/>
              <a:ext cx="2514600" cy="3045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8:38:02Z</dcterms:created>
  <dc:creator>Jennifer Schwinghammer</dc:creator>
  <dc:description/>
  <dc:language>en-US</dc:language>
  <cp:lastModifiedBy>Jennifer Schwinghammer</cp:lastModifiedBy>
  <dcterms:modified xsi:type="dcterms:W3CDTF">2008-05-31T00:27:40Z</dcterms:modified>
  <cp:revision>1</cp:revision>
  <dc:subject/>
  <dc:title>Slide 1</dc:title>
</cp:coreProperties>
</file>